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8E6-9176-463C-BD4E-EF8CC74F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E77-E6C4-494C-9AD9-D02AD056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87B-5F3F-45C1-B5BF-877D61A7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77D0-1BBE-4632-9B11-C8C917A9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DDB-46C4-4FBF-B9B8-96D12F76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7B1B-01D6-4533-AF56-C9D14A3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3DF1-4EC0-4C2F-B084-69448B90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D78D-6139-4F6E-82E6-D6DC57CF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AFA3-7A67-44D3-8C24-DA7771AD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0093-B704-4F51-878E-E4CBF6E4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F1C1-1FF1-4E3D-9C0D-5FBD99F1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A73-FDD7-40AE-8746-8991196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B37-2731-478F-B8CA-797F373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B3A4-3971-4685-871F-8B7D581D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F8F8-6D91-4C29-84B3-E02456E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F3ED-388E-4759-9F97-94E6A97C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54A3-E04E-4C80-9C19-8A167FB4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81B-DC43-4257-AFDA-C2D95EE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219-56FD-4E6D-B424-58D00C1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8DCE-15A0-49AB-8F7D-2FDD9EF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C58-2288-472D-AEB1-95572CF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0B6-9054-4B8B-85BD-B4FB95C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C63-972D-4E07-8B4F-8808E01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256-3E81-4F6A-B142-64F9B0D4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7E84-70CA-41DB-A512-938C7038FE52}" type="slidenum">
              <a:rPr b="0" lang="ja-JP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CA0E-6B85-4F84-8B33-7549B42E6263}" type="slidenum">
              <a:rPr b="0" lang="ja-JP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nion-lang.org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Verdana"/>
              </a:rPr>
              <a:t>LL</a:t>
            </a:r>
            <a:r>
              <a:rPr b="0" lang="ja-JP" sz="4000" spc="-1" strike="noStrike">
                <a:solidFill>
                  <a:srgbClr val="000000"/>
                </a:solidFill>
                <a:latin typeface="Verdana"/>
              </a:rPr>
              <a:t>魂 </a:t>
            </a:r>
            <a:r>
              <a:rPr b="0" lang="ja-JP" sz="4000" spc="-1" strike="noStrike">
                <a:solidFill>
                  <a:srgbClr val="000000"/>
                </a:solidFill>
                <a:latin typeface="Verdana"/>
              </a:rPr>
              <a:t>Lightning Talk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Verdana"/>
              </a:rPr>
              <a:t>Power of Scal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筑波大学大学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水島　宏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Regular expression patter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現在は限定的なサポート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equence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のパターンマッチで末尾に任意個の要素が来る場合を扱え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x = Array("Foo", "Bar", "Baz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atch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s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("Foo", _*)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=&gt; println("Foo")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これを書いたらエラーメッセージ が表示された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or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atch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s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("Foo", _*, "Baz") =&gt; println("Foo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gular expressions not yet implem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Existential 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generic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な型同士にサブタイプを導入でき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List[String]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は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List[Any]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のサブタイプ</a:t>
            </a:r>
            <a:r>
              <a:rPr b="0" lang="ja-JP" sz="2600" spc="-1" strike="noStrike">
                <a:solidFill>
                  <a:srgbClr val="ff3300"/>
                </a:solidFill>
                <a:latin typeface="Verdana"/>
              </a:rPr>
              <a:t>でない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x:List[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forSom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 &lt;: Any}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] = List("A", "B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 = List(1, 2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K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(0) + x(1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rror: type mismatch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Java Generics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にも同等の機能が存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ワイルドカー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Abstract 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型や値を未定義の抽象的な型を定義でき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  <a:ea typeface="ＭＳ ゴシック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abstract 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ell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;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value :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未定義の実装を与えることでインスタンス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ell =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ell {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 = int ;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value = 100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ntln(cell.value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Family polymorphism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を実現でき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「クラスの集まり」を継承できる機能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語弊あり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まともな説明は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cala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のドキュメントを参照のこ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Tra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Ruby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のモジュールみたいなもの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多重継承可能かつインスタンス化不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trait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parable[T &lt;: Comparable[T]]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pareTo(o :T) :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&lt;(o :T) = compareTo(o) &lt; 0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erson(n :String) ...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ith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parable[String]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name =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verride 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pareTo(o :T) =  n compareTo o.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ar =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erson("Bar");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oo =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erson("Foo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ntln(foo &lt; bar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まと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tructural subty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Ca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e class + pattern matc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La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zy val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mplicit conversion(View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ingleton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G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eneric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R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egular expression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E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xistential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A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bstract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600" spc="-1" strike="noStrike">
                <a:solidFill>
                  <a:srgbClr val="003366"/>
                </a:solidFill>
                <a:latin typeface="Verdana"/>
              </a:rPr>
              <a:t>T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ra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3366"/>
                </a:solidFill>
                <a:latin typeface="Verdana"/>
              </a:rPr>
              <a:t>Scala </a:t>
            </a:r>
            <a:r>
              <a:rPr b="1" lang="ja-JP" sz="4000" spc="-1" strike="noStrike">
                <a:solidFill>
                  <a:srgbClr val="003366"/>
                </a:solidFill>
                <a:latin typeface="Verdana"/>
              </a:rPr>
              <a:t>サイコ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参考資料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公式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ペー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http://www.scala-lang.org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置いてあるドキュメントを読めば大体の機能はわか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ただし最新の機能に追従できてない場合あり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Verdana"/>
              </a:rPr>
              <a:t>最新機能は処理系に付属の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</a:rPr>
              <a:t>読んだ方がいいかも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ちょっと宣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プログラミング言語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Onion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作ってま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onion-lang.org/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で公開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JVM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で動作する静的型付けオブジェクト指向言語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絶賛開発停滞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少しずつ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本当に少しずつ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開発進めてま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次のバージョンをリリースできるのはいつの日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Scala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最近ときどき言及される言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cf. Matz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にっき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(2006-04-04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Actor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ライブラリなどで注目を集めている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静的型付けオブジェクト指向関数型言語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ベースはオブジェクト指向言語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処理系は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JVM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上で動作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近代的な言語仕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紹介する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Scala</a:t>
            </a: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の機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tructural subty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Case class + pattern match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Lazy val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Implicit conversion(View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Singleton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Generic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Regular expression patter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Existential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Abstract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Tra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Structural subty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静的型でダックタイピング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相当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ができるよ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nominal VS. structu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2.6.0-RC1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で導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utsName(x :</a:t>
            </a:r>
            <a:r>
              <a:rPr b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{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def</a:t>
            </a:r>
            <a:r>
              <a:rPr b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 name :String }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= println(x.na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oo {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name = "Foo"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ar {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name = "Bar"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x = List[</a:t>
            </a:r>
            <a:r>
              <a:rPr b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{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def</a:t>
            </a:r>
            <a:r>
              <a:rPr b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 name :String}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](Foo, B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p &lt;- x) putsName(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Case class + pattern match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関数型言語でおなじ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case class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で使用するデータ構造を定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mat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構文で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pattern match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を行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bstract 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case 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Num(x :int)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tend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case 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lus(l :Term, r :Term)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tend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lus(Num(100), Num(200))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match</a:t>
            </a:r>
            <a:r>
              <a:rPr b="0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cas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Num(a) =&gt; 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cas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lus(l, r) =&gt; println(l,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(Num(100),Num(200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Lazy valu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遅延評価を簡単に実現するための機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2.6.0-RC1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で導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ja-JP" sz="2000" spc="-1" strike="noStrike">
                <a:solidFill>
                  <a:srgbClr val="336699"/>
                </a:solidFill>
                <a:latin typeface="ＭＳ ゴシック"/>
                <a:ea typeface="ＭＳ ゴシック"/>
              </a:rPr>
              <a:t>lazy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 = { println("Hello"); ""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ello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ello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何も表示されな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2.6.0-RC1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時点では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buggy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っぽいので注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以下のコードで対話環境が落ち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cala&gt; 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lazy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 = println("Hello"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 in thread "main"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Implicit conversion(View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ユーザが暗黙の型変換を定義可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定義した変換はコンパイラの型チェックをパスす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標準でいくつかの暗黙の変換が定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int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から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long, int 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から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double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な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000" spc="-1" strike="noStrike">
                <a:solidFill>
                  <a:srgbClr val="3366cc"/>
                </a:solidFill>
                <a:latin typeface="ＭＳ ゴシック"/>
                <a:ea typeface="ＭＳ ゴシック"/>
              </a:rPr>
              <a:t>implicit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i2s(i :int) = i.to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ntln(321.substring(1)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用法・用量をよく守ってお使いくださ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cc0000"/>
                </a:solidFill>
                <a:latin typeface="Verdana"/>
              </a:rPr>
              <a:t>こんなことをしてはいけませ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ja-JP" sz="2000" spc="-1" strike="noStrike">
                <a:solidFill>
                  <a:srgbClr val="336699"/>
                </a:solidFill>
                <a:latin typeface="ＭＳ ゴシック"/>
                <a:ea typeface="ＭＳ ゴシック"/>
              </a:rPr>
              <a:t>implicit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2i(s :String) = </a:t>
            </a:r>
            <a:r>
              <a:rPr b="1" lang="ja-JP" sz="2000" spc="-1" strike="noStrike">
                <a:solidFill>
                  <a:srgbClr val="cc0000"/>
                </a:solidFill>
                <a:latin typeface="ＭＳ ゴシック"/>
                <a:ea typeface="ＭＳ ゴシック"/>
              </a:rPr>
              <a:t>Integer.parseInt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r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i :int = "hoge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ava.lang.NumberFormatException: For input string: "hoge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Singleton 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特定のインスタンスを参照していることを保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「自分自身」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(this)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を返す型などが作れ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カスケード呼び出しをするときなどに役立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up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utsSuper() :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this.typ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= { print("Super");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ub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tend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up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utsSub() :</a:t>
            </a:r>
            <a:r>
              <a:rPr b="1" i="1" lang="ja-JP" sz="2000" spc="-1" strike="noStrike">
                <a:solidFill>
                  <a:srgbClr val="003366"/>
                </a:solidFill>
                <a:latin typeface="ＭＳ ゴシック"/>
                <a:ea typeface="ＭＳ ゴシック"/>
              </a:rPr>
              <a:t>this.type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= { println("Sub");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ub().printSuper.printSub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uper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Verdana"/>
              </a:rPr>
              <a:t>Generic 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Java generics</a:t>
            </a:r>
            <a:r>
              <a:rPr b="0" lang="ja-JP" sz="3000" spc="-1" strike="noStrike">
                <a:solidFill>
                  <a:srgbClr val="000000"/>
                </a:solidFill>
                <a:latin typeface="Verdana"/>
              </a:rPr>
              <a:t>と仕様は類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実は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GJ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の人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=Scala</a:t>
            </a:r>
            <a:r>
              <a:rPr b="0" lang="ja-JP" sz="2600" spc="-1" strike="noStrike">
                <a:solidFill>
                  <a:srgbClr val="000000"/>
                </a:solidFill>
                <a:latin typeface="Verdana"/>
              </a:rPr>
              <a:t>の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ack[T]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ush(e :T) =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f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pop =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val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 = </a:t>
            </a:r>
            <a:r>
              <a:rPr b="1" i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ack[Str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 push "Fo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ntln(s pop)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o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水島宏太</cp:lastModifiedBy>
  <dcterms:modified xsi:type="dcterms:W3CDTF">2007-08-14T13:08:31Z</dcterms:modified>
  <cp:revision>28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